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823-6805-40D6-AB60-E976B240D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-A Potent Blood Coagu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ane S.M., Mohite N.R., Nakat J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i. Shivaji college of Agri-Biotechnolog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ra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2 ml of fresh blood sample in two test tubes without adding any anticoagu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ne test tube as control and other as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00mg of sterile dry powder of Tridax procumbence in test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Tridax procumbence powder i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agulation time of both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ample clots earlier than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powder of Tridax procumbence  helps in faster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have great medicinal properties and can be used fo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nd he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phillic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inflama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source of treatment in tribal areas where medical supervision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vya-gun vigyan-Dharmadhik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pathology-harshmo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book of biochemistry and human biology-J.P.Tal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ochemistry-satyanara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iologyforum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ciencedictiona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ic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 is a widespread weed,commonly known as coat button in english,ekdandi or kambarmodi in marathi,ghamra in hindi and jayantiveda in sansk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anical class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: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: Magnol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: Magnoliops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: Ast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: Asteracea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be: Helianthe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: Trid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: T. Procumb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dax procumbence is a species of flowering plant in a daisy family.It occurs in tropical as well as subtropical regions,in all the sea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ported to have various pharmacological effects and antimicrobial activity against bacteria,hence prevent the infection and stimulate wound he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dax procumbence,blood coagulation,aspartic acid,marker enzymes,alanine trans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COMPOSITION AND THEIR PHYSIOLOGICAL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gmasterol  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tasitosterol-antiinflametory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-required for coagulation factors to bind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s-required for tenase and prothrombinase to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er enzymes –Helps in conversion of fibrinogen to fib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partate,transami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e dehydrogena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kaline phospha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BLOOD COA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nvolves two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Extrinsic Pathway :It is the initial process in the clotting and involves factors that are not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Intrinsic Pathway :It involves the series of reaction participated by the factors present in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pathways are not independent but they are coupled together to convert protrombin to thrombin and fribrinogen to fibrin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actors responsible for blood coag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ogen:forms c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hrombin:it activates protein c and plate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factor:co factor of prothrom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:helps to bind the coagulation factor to phospholip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tmas factor:forms tenase complex with antihaemophill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geman factor :activates plasm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mol.Wt kininogen factor :support activation of hageman’s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urt prower factor: forms prothrmbinase complex with labile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 factor: precipitates in final common clotting path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brin stabilizing factor: carried out cross links of fibr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e dry powder of Tridax procumbence,fresh blood sample without anticoagulant,test tubes,stopwatch,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1A6-CDB4-474A-A7E6-05F61498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96B-D621-443A-89F3-1053B449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3E3-6610-4E12-BD9D-81A0104A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036-9375-4568-B7DF-26BDA7F7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D643-8BE1-4FCD-970B-7F34B6F9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B8F0-1DBE-42A6-9A17-51A028FA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2418-0827-4DEA-BD6F-C0FF00A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0D4B-AB7A-42BA-8CBF-BC965D9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14C5-6151-414C-B3E4-ABE6283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D3D2-8059-44D2-9AD5-5FAFC60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2BA6-1889-43E4-9CA6-5C0DD2B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10E-C3BE-4C1C-9CE5-B6533C1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D3CA-2910-4908-8D34-E87FDEA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80E8-E8AF-4013-BC1C-BD523F3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636E-5769-478D-A10D-E97E4BD4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D8B8-D295-42EB-9DC5-9D88324E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DC28-5BF5-4F9A-88D6-2D11051D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551-ED9A-4D93-AC17-B7E4D75E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2E4-2CC2-4218-BBEA-B8FD5A0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D6D-A506-4FCC-A81A-67196CA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803-6984-4A04-977E-8B516B5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993-B21E-4940-B6A7-5568417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546-9FEB-466B-AF17-5D7FCF9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132-4818-4015-A389-FF8202E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C7C-9B7D-4A02-896F-C599103350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7C7A-11C6-4448-9EF4-3081E67F4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lantae" TargetMode="External"/><Relationship Id="rId2" Type="http://schemas.openxmlformats.org/officeDocument/2006/relationships/hyperlink" Target="http://en.wikipedia.org/wiki/Flowering_plant" TargetMode="External"/><Relationship Id="rId3" Type="http://schemas.openxmlformats.org/officeDocument/2006/relationships/hyperlink" Target="http://en.wikipedia.org/wiki/Magnoliopsida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Tridax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333399"/>
                </a:solidFill>
                <a:latin typeface="Tahoma"/>
              </a:rPr>
              <a:t>procumbence-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A Potent Blood Coagula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utane S.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, Mohite N.R., Nakat J.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ri. Shivaji college of Agri-Bio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rav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2 ml of fresh blood sample in two test tubes without adding any anticoagul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one test tube as control and other as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200mg of sterile dry pow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est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ad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der in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coagulation time of both samp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st sample clots earlier than contr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in faster blood coag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great medicinal properties and can be used for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und hea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emophillic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eeding disor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inflamatory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ource of treatment in tribal areas where medical supervision is not avail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avya-gun vigyan-Dharmadhik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pathology-harshmo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book of biochemistry and human biology-J.P.Tal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chemistry-satyanaray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iologyforum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sciencedictionar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botanica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hank You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widespread weed,commonly known as coat button in english,ekdandi or kambarmodi in marathi,ghamra in hindi and jayantiveda in sanskr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anical classific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ngdom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lant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sion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agnoliophy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Magnoliops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: Ast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: Asteracea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be: Helianthe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us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rid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es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T. Procumb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553080" y="3581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9" descr="Tridaxprocumbens"/>
          <p:cNvPicPr/>
          <p:nvPr/>
        </p:nvPicPr>
        <p:blipFill>
          <a:blip r:embed="rId4"/>
          <a:stretch/>
        </p:blipFill>
        <p:spPr>
          <a:xfrm>
            <a:off x="5486400" y="1905120"/>
            <a:ext cx="226224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Tridax_procumbens444"/>
          <p:cNvPicPr/>
          <p:nvPr/>
        </p:nvPicPr>
        <p:blipFill>
          <a:blip r:embed="rId5"/>
          <a:stretch/>
        </p:blipFill>
        <p:spPr>
          <a:xfrm>
            <a:off x="5410080" y="4419720"/>
            <a:ext cx="2438640" cy="2052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idax procumbenc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species of flowering plant in a daisy family.It occurs in tropical as well as subtropical regions,in all the sea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hibits antiseptic,insecticidal and hair growth promoting properties.More commonly the plant leaves are used to check haemorrhage from cuts,brucies,wou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reported to have various pharmacological effects and antimicrobial activity against bacteria,hence prevent the infection and stimulate wound hea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oagulation,aspartic acid,marker enzymes,alanine transamyl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EMICAL COMPOSITION AND THEIR PHYSIOLOGICAL RESPONSE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gmasterol  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sitosterol-antiinflametory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ium-required for coagulation factors to bind to phospholipi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spholipids-required for tenase and prothrombinase to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 enzymes –Helps in conversion of fibrinogen to fibr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spartate,transami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tate dehydrogenas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kaline phosphata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ECHANISM OF BLOOD COAG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od clotting comes under the concept of haemostasis.It is the major defence mechanism against the blood loss and occurs due to different substances mainly glycoproteins synthesized by the li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nvolves two path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)Ex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s the initial process in the clotting and involves factors that are not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)Intrinsic Pathw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It involves the series of reaction participated by the factors present in the blo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 pathways are not independent but they are coupled together to convert protrombin to thrombin and fribrinogen to fibrin clo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ortant factors responsible for blood coagul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og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clo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rothromb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it activates protein c and platele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issue factor:c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actor of prothromb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ium:helps to bind the coagulation factor to phospholipi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hristmas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forms tenase complex with antihaemophillic fac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agema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activates plasma pro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igh mol.Wt kininoge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support activation of hageman’s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taurt prower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forms prothrmbinase complex with labile fa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Generation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precipitates in final common clotting pathw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ibrin stabilizing fac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arried out cross links of fibr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4" descr="fig01"/>
          <p:cNvPicPr/>
          <p:nvPr/>
        </p:nvPicPr>
        <p:blipFill>
          <a:blip r:embed="rId1"/>
          <a:stretch/>
        </p:blipFill>
        <p:spPr>
          <a:xfrm>
            <a:off x="914400" y="2438280"/>
            <a:ext cx="6553080" cy="3100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TERIAL REQUIR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rile dry powder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idax procumbence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sh blood sample without anticoagulant,test tubes,stopwatch,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5:31:42Z</dcterms:created>
  <dc:creator>Himanshu</dc:creator>
  <dc:description/>
  <dc:language>en-US</dc:language>
  <cp:lastModifiedBy>LEGION2</cp:lastModifiedBy>
  <dcterms:modified xsi:type="dcterms:W3CDTF">2016-01-14T13:12:13Z</dcterms:modified>
  <cp:revision>34</cp:revision>
  <dc:subject/>
  <dc:title>Paper presentation</dc:title>
</cp:coreProperties>
</file>